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604E-77FA-4CB1-AAAF-FEBB12FC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6929-FCC6-4447-9152-09235D0B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A59-380C-46C1-BDFE-BD437C10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1A52-87D5-4982-B4E5-9D96DD3E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C271-8303-41FF-B7AE-12AE6842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8D31-6D80-4B37-8BC4-6D51C71B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7D49-4436-436A-B0E5-0E097D76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DB50-7194-4CE1-BF0E-126A9FC6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87AE-6812-46BA-AB5E-58868752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C3FD-59D8-4C83-BE65-53CD1B07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0016-A38A-4CBB-A43D-06FD60DB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8A62-378C-4DB2-B355-6F45249F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B911-4842-492E-B598-A85D4F20CC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octobre%202005/TabOrientation.doc" TargetMode="External"/><Relationship Id="rId2" Type="http://schemas.openxmlformats.org/officeDocument/2006/relationships/hyperlink" Target="file:///octobre%202005/Saccades.doc" TargetMode="External"/><Relationship Id="rId3" Type="http://schemas.openxmlformats.org/officeDocument/2006/relationships/hyperlink" Target="file:///octobre%202005/Vergence.doc" TargetMode="External"/><Relationship Id="rId4" Type="http://schemas.openxmlformats.org/officeDocument/2006/relationships/hyperlink" Target="file:///octobre%202005/Poursuite.doc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octobre%202005/pages%20techniques.doc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octobre%202005/ApplicationsM&#233;dicales.doc" TargetMode="External"/><Relationship Id="rId2" Type="http://schemas.openxmlformats.org/officeDocument/2006/relationships/hyperlink" Target="file:///octobre%202005/ApplicationsNonM&#233;dicales.doc" TargetMode="External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octobre%202005/pathologies_akin&#233;topsie.doc" TargetMode="External"/><Relationship Id="rId2" Type="http://schemas.openxmlformats.org/officeDocument/2006/relationships/hyperlink" Target="file:///octobre%202005/oscillopsie.doc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00"/>
                </a:solidFill>
                <a:latin typeface="Arial"/>
              </a:rPr>
              <a:t>MOUVEMENT et VI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00360" y="2314440"/>
            <a:ext cx="4038480" cy="3441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distingue deux grands types de mouvements oculai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.Les mouvements de stabilisation de l’im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335772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ls permettent de fixer l’image sur une cible lorsque la tête bou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l s’agit des mouvements optocinétiques et des mouvements vestibulo-oculai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2.Les </a:t>
            </a:r>
            <a:r>
              <a:rPr b="0" lang="en-US" sz="40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mouvements d’orientation </a:t>
            </a:r>
            <a:r>
              <a:rPr b="0" lang="en-US" sz="4000" spc="-1" strike="noStrike" u="sng">
                <a:solidFill>
                  <a:srgbClr val="660066"/>
                </a:solidFill>
                <a:uFillTx/>
                <a:latin typeface="Arial"/>
              </a:rPr>
              <a:t>du rega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s ont pour objectif de garder la fovéa sur une cible même lorsque celle-ci se dé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 s’agit des mouveme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de sacc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de verg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4"/>
              </a:rPr>
              <a:t>de poursu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lques manipulations simples permettent d’aborder en classe les mouvements oculai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822960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flexe vestibulo-oculai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acc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Verg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es mouvements oculaires nécessitent la mise en jeu de voies nerveuses et de muscles oculomoteur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1471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ujourd’hui, la vision est l’objet de recherches d’un grand nombre d’équipes pluridisciplinaire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5640" y="5157360"/>
            <a:ext cx="73515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ela nécessite la mise au point de </a:t>
            </a: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techniques d’enregist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348000" y="2565360"/>
            <a:ext cx="3102120" cy="2325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68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68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6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68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de nombreuses applications en découlent 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42920" y="170028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Médi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2205000"/>
            <a:ext cx="359568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Non médi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403280" y="3429000"/>
            <a:ext cx="2448000" cy="2160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076720" y="3429000"/>
            <a:ext cx="2303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Des pathologies affectent la perception du mouvement et/ou les mouvements du rega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364464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Akinétops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Oscillops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plopie/Strabis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08:30:12Z</dcterms:created>
  <dc:creator>ternaux</dc:creator>
  <dc:description/>
  <dc:language>en-US</dc:language>
  <cp:lastModifiedBy>ternaux</cp:lastModifiedBy>
  <dcterms:modified xsi:type="dcterms:W3CDTF">2005-11-04T16:32:01Z</dcterms:modified>
  <cp:revision>50</cp:revision>
  <dc:subject/>
  <dc:title>LE MOUVEMENT DU REGARD</dc:title>
</cp:coreProperties>
</file>